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6F2-8651-414D-B622-064BA863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5CC-77D1-42B5-880E-0FDAD159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A39-8843-4D23-BBA1-B2BC8C1A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BDC-F2E9-44B4-B0A1-39E69A62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6E3-5100-4F76-97F2-B596DB1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D41-A9FB-4BA0-9BF0-00CA06FE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938-8515-4ADB-B6AE-256F0067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582-A5EE-4AA1-8C6E-959D7041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1AE-B82F-4451-B742-795DB92A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3FF-8854-45F4-BBF9-F3B1F6C1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B2C-F0BD-4DD6-ABB1-EBB8DE0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0AA-C0CE-4036-B47F-378E50B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99A4-B988-4285-97A9-93017190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573360"/>
            <a:ext cx="518148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أبتاه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56000" y="206064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اتوا أجملَ حُلَّةٍ وأَلبسُوه، وضعوا في يدِهِ خاتماً،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أنَّ إبنيَ هذا كان ميتاً فعاش، وكان ضالاً فوُجِدَ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27640" y="213372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2:41Z</dcterms:created>
  <dc:creator>Charbel Azar</dc:creator>
  <dc:description/>
  <dc:language>en-US</dc:language>
  <cp:lastModifiedBy>-</cp:lastModifiedBy>
  <dcterms:modified xsi:type="dcterms:W3CDTF">2003-01-20T12:10:43Z</dcterms:modified>
  <cp:revision>2</cp:revision>
  <dc:subject/>
  <dc:title>PowerPoint Presentation</dc:title>
</cp:coreProperties>
</file>